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FD2-2625-47A5-B37E-1B84683F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541-0DCF-425A-B6A2-217CD204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F9B-F995-4663-85D6-115CEBB0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61C-56E9-432C-9062-16BCE18C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B9A-00FE-4D20-BC39-8037202F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AEED-9603-41CC-A1F8-D6BB952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DC17-8080-4C62-98B0-6D488EDD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7AB-0B7B-4CCD-90B8-B322AA1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71BC-10A9-40B8-933E-4E342D6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25C-B041-400E-8583-6320D067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14CA-81F6-444F-A3B2-57D924C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80F-9BCC-427E-97B8-E9739D1C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8DD-35D5-4100-A72F-E37B9E2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30F9-939F-47B3-A91F-1DE2872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C5E3-6DBE-4BD1-9C1D-D41CC62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331C-13F0-421E-9AE1-E5F5CBB9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C3F-DF84-4B3C-B6A6-BBB7BB5E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1F3-1232-44B4-904E-18C72FD1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58D-AE94-4ECC-B097-57EF893C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20B-74D5-4A92-87C6-2052464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FDD-66EF-43EB-94B3-F779B93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E9F-A2F9-4BF9-858B-D45399A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8D3-BCD8-485E-BFA2-65BA629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F2A-1677-4BA0-9661-C68A375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CC7-B4F6-4416-BED4-D5E3BB297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E27-90CA-4023-B50F-6A06B906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OS June 12, 2008 Meeting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190512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June 26, 2008 TAC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571500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 Single Entry Model (SEM) Approach Document was discu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Operations Report included only one event of a special protection system (SPS) arming and actu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Operations’ update on Unannounced Unit Testing was discussed.  A recommendation was made for ERCOT to provide improved communication at the beginning and the end of the tes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Arial Black"/>
              </a:rPr>
              <a:t>Question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76520" y="28875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&amp; Ans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419720" cy="27795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4419720" y="1447920"/>
            <a:ext cx="38671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liance/Performance Measures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581040" y="4673520"/>
            <a:ext cx="32288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aining Opportuniti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5486400" y="2514600"/>
            <a:ext cx="22096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anges to Protocols &amp; Op Guides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80880" y="1981080"/>
            <a:ext cx="32004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connection Pro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(approved at ROS June meeting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GRR0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ynchronization of OGRR204, “Hotline Technology Upd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GRR0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ynchronization of OGRR206, “Black Start Satellite Ph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ECP 20080226 ROS Action Plan / Wind Workshop Follow-Up Item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concurred that “Changes to Protocols/Guid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 multiple CSC limit stu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[Ite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, assigned to the ROS Wind Operations Task Force (WOTF), is n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June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RCOT has implemented this for all five CSC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R and a NPRR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TF provided the status of other assign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ECP 20080226 ROS Action Plan / Wind Workshop Follow-Up Item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concurred with the wording proposed by the OWG concerning “Changes to Protocols/Guides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-examine the EECP Steps (should ERCOT's obligation to issue a public appeal for conservation be optional?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[I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WG will initiate an OGGR to eliminate the requirement that an appe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made in Step 2.  Per TAC, a PRR and a NPRR are also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commendation was made that wording be reviewed and clarified, if needed, to eliminate any confusion that it is acceptable for a local TSP to issue an energy conservation appeal for transmission congestion without receiving any directive from ERC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concurred with the OWG concerning “Changes to Protocols/Guides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cillary Service procurement methodology (Increase RGS,RRS,NSRS during high-risk perio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[I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 longer assigned to the OWG.  The WMS will take the lead on this issue, with the WOTF following what the WMS is propo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 Action Plan Summary:  EECP Step #2 (Feb.2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, 2008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WG (Operations Working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DCWG (Performance Disturbance Compliance Working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362320"/>
          <a:ext cx="8001000" cy="1646280"/>
        </p:xfrm>
        <a:graphic>
          <a:graphicData uri="http://schemas.openxmlformats.org/drawingml/2006/table">
            <a:tbl>
              <a:tblPr/>
              <a:tblGrid>
                <a:gridCol w="990720"/>
                <a:gridCol w="5486400"/>
                <a:gridCol w="152388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Wind Generation ramp rate limitations [assigned to ROS &amp; WM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Re-examine the EECP Steps (should ERCOT's obligation to issue a public appeal for conservation be optional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38080" y="5029200"/>
          <a:ext cx="8001000" cy="731880"/>
        </p:xfrm>
        <a:graphic>
          <a:graphicData uri="http://schemas.openxmlformats.org/drawingml/2006/table">
            <a:tbl>
              <a:tblPr/>
              <a:tblGrid>
                <a:gridCol w="990720"/>
                <a:gridCol w="5486400"/>
                <a:gridCol w="15238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System Inertia (generator governor response) [with inertia data from DWG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 Action Plan Summary:  EECP Step #2 (Feb.2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, 2008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TF (Wind Operations Task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255760"/>
          <a:ext cx="8001000" cy="4297320"/>
        </p:xfrm>
        <a:graphic>
          <a:graphicData uri="http://schemas.openxmlformats.org/drawingml/2006/table">
            <a:tbl>
              <a:tblPr/>
              <a:tblGrid>
                <a:gridCol w="1295640"/>
                <a:gridCol w="5410080"/>
                <a:gridCol w="129528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PDCW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an be done to improve STLF performance when previous day load profile and current day load profiles are obviously different?  Can a ‘similar day’ profile be substituted for the previous day prof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CW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QSEs including wind QSEs MUST be vigilant in updating their Resource Plan and keeping it accur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Better defined voltage support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Better defined SCADA control on generation bre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ERCOT/TSP/Generator voltage managemen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 Action Plan Summary:  EECP Step #2 (Feb.2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, 2008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TF (Wind Operations Task For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Continu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255760"/>
          <a:ext cx="800100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Generation  Interconnection Synchronization checklist (how will generation unit’s provide reactive support/voltage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/Performance Measures:  24/7 communication must be available for TSP to reach wind gen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Wind Generation ramp rate limitations [assigned to ROS &amp; WM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PRR to mandate use of AWST 80% forecast in wind Resource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Ancillary Service procurement methodolog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crease RGS, RRS, NSRS during high-risk periods) [assigned to ROS &amp; WM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 Action Plan Summary:  EECP Step #2 (Feb.2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, 2008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TF (Wind Operations Task For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Continu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2255760"/>
          <a:ext cx="8001000" cy="3565440"/>
        </p:xfrm>
        <a:graphic>
          <a:graphicData uri="http://schemas.openxmlformats.org/drawingml/2006/table">
            <a:tbl>
              <a:tblPr/>
              <a:tblGrid>
                <a:gridCol w="1295640"/>
                <a:gridCol w="5410080"/>
                <a:gridCol w="1295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Mid Term and Short Term Load Forecast weather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Evaluate transmission line and wind power production outage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Run multiple CSC limit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Dynamic line ra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:  wind generator knowledge of plant equipment/controls/bes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approved the slate of volunteers for the Standard Drafting Team for NERC Regional Reliability Standar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R-002-TRE-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“Development and Documentation of Regional UFLS Programs”.  Randy Jones Calpine will be the Interim C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approved the slate of volunteers for the Standard Drafting Team for NERC Regional Reliability Standar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R-003-TRE-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“FERC-Ordered Modification to ERCOT Waiver to R2 of BAL-001-0 CPS2”.  Ananth Palani EnergyCo will be the Interim C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05401</cp:lastModifiedBy>
  <dcterms:modified xsi:type="dcterms:W3CDTF">2008-06-18T14:52:02Z</dcterms:modified>
  <cp:revision>22</cp:revision>
  <dc:subject/>
  <dc:title>ROS’ Action Plan – Following Up on 2/26 EECP &amp; Wind Workshop Issues</dc:title>
</cp:coreProperties>
</file>